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76784"/>
        <c:axId val="98202776"/>
      </c:barChart>
      <c:catAx>
        <c:axId val="30876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02776"/>
        <c:crosses val="autoZero"/>
        <c:auto val="1"/>
        <c:lblAlgn val="ctr"/>
        <c:lblOffset val="100"/>
        <c:noMultiLvlLbl val="0"/>
      </c:catAx>
      <c:valAx>
        <c:axId val="98202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76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F60-1300-4923-BBBA-FDC20604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58C-146D-46D2-82A7-9E4543A2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2F5-6F39-4C60-BC82-744C04A1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DC6-8958-4855-8655-08C3B56C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B52-7E56-478E-839C-545AD8EB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3A4-2A3E-4AA6-AE69-8821C0B3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516-8538-48BB-A5E5-9388E595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FCF-2A04-4694-9363-EABB26D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5E5-D7BE-4268-A02C-CD0F1157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A73-AB01-4A09-B15D-24737932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356-BB71-406E-B822-BD57CE4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0D4-A0F0-4469-8B2A-1DFD6858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E62F6-2B8A-47E9-AE3A-1C33070E3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